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01704-FA8A-453F-8899-F2730B77E75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grafico: immagine 78137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ta programmatore. Tipo di quesito: abbinamen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isposta esatta: dall’alto: aperto, chiuso, chiuso, chiuso, aper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epli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isposta esatta: Esatto. Con gli anedoctal records e gli strumenti “carta e penna” l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 codificazione dei dati avviene senza aver predefinito categorie di analisi; gli altri strumenti utilizzano invece categorie predefini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isposta errata: Attenzione, non hai assegnato tutti i valori corrett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isposta non fornita: Anedoctal records e strumenti “carta e penna” sono aperti in quanto l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 codificazione dei dati avviene senza aver predefinito categorie di analisi; gli altri sono strumenti chiusi perché non utilizzano categorie predefini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grafico: immagine 81024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ta grafico: immagine 73030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ta programmatore: Quesito vero/fal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isposta esatta: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epli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ttenzione: l’osservazione viene effettuata, per definizione, in contesti reali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Esatto. Infatti si tratta di un esperimento condotto in un contesto artificia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grafico: immagine 73001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grafic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grafico: immagine 73019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programmatore: Quesito a scelta multip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sposta esatta: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i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enzione: in questo caso l’obiettivo dell’osservazione va oltre la semplice descrizi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rio così! L’osservazione è finalizzata a una decisione di tipo formativ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 si tratta di verifica in quanto non si sta utilizzando l’osservazione per misurare la validità di un’ipotesi, ma piuttosto per agire in futu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20280" y="4343400"/>
            <a:ext cx="576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Arial"/>
              </a:rPr>
              <a:t>Testo degli approfondiment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Strutturata (o sistematica)/Non strutturat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L’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osservazione strutturata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ha uno scopo preciso definito a priori, opera su soggetti ben delimitati e dispone di un sistema pianificato di raccolta e classificazione delle informazioni. L’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osservazione non strutturata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è utilizzata in genere a fini esplorativi, allo scopo di raccogliere informazioni “sul campo” in vista di una precisazione delle ipotesi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Partecipante/Non partecipan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L’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osservazione partecipant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è il metodo tipicamente usato in etnografia e consiste nella raccolta di informazioni da parte di un ricercatore che osserva e registra quanto avviene in un gruppo con il quale interagisce e nel quale si inserisce allo scopo di studiarne la realtà. Nell’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osservazione non partecipante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l’osservatore è esterno alla realtà studiata, anche se utilizza gli stessi strumenti dell’osservatore partecipante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Spontanea (o occasionale)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Questo tipo di osservazione è scientificamente meno valida e affidabile. Ogni persona può raccogliere informazioni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Diretta/ Indirett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L’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osservazione diretta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è centrata sui processi e prevede che l’osservazione e la registrazione degli eventi avvengano contemporaneamente. L’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osservazione indiretta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è centrata sui prodotti e lo scopo è osservare determinati comportamenti e situazioni in differita rispetto alla situazione in esam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grafico: immagine 73028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grafico: immagine 73003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80880"/>
            <a:ext cx="9144000" cy="3812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362640"/>
            <a:ext cx="9144000" cy="5335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419040"/>
            <a:ext cx="9144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458200" y="6486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23194" y="10800"/>
                </a:lnTo>
                <a:lnTo>
                  <a:pt x="918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previousslide"/>
          </p:cNvPr>
          <p:cNvSpPr/>
          <p:nvPr/>
        </p:nvSpPr>
        <p:spPr>
          <a:xfrm>
            <a:off x="7620120" y="6486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firstslide"/>
          </p:cNvPr>
          <p:cNvSpPr/>
          <p:nvPr/>
        </p:nvSpPr>
        <p:spPr>
          <a:xfrm>
            <a:off x="304920" y="6486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16187" y="3837"/>
                </a:moveTo>
                <a:lnTo>
                  <a:pt x="18764" y="6448"/>
                </a:lnTo>
                <a:lnTo>
                  <a:pt x="18764" y="4707"/>
                </a:lnTo>
                <a:lnTo>
                  <a:pt x="20539" y="4707"/>
                </a:lnTo>
                <a:lnTo>
                  <a:pt x="20539" y="8224"/>
                </a:lnTo>
                <a:lnTo>
                  <a:pt x="23150" y="10800"/>
                </a:lnTo>
                <a:lnTo>
                  <a:pt x="21497" y="10800"/>
                </a:lnTo>
                <a:lnTo>
                  <a:pt x="21497" y="17989"/>
                </a:lnTo>
                <a:lnTo>
                  <a:pt x="10878" y="17989"/>
                </a:lnTo>
                <a:lnTo>
                  <a:pt x="10878" y="10800"/>
                </a:lnTo>
                <a:lnTo>
                  <a:pt x="9224" y="10800"/>
                </a:lnTo>
                <a:close/>
              </a:path>
              <a:path fill="darkenLess" w="32375" h="21600">
                <a:moveTo>
                  <a:pt x="18764" y="6448"/>
                </a:moveTo>
                <a:lnTo>
                  <a:pt x="18764" y="4707"/>
                </a:lnTo>
                <a:lnTo>
                  <a:pt x="20539" y="4707"/>
                </a:lnTo>
                <a:lnTo>
                  <a:pt x="20539" y="8224"/>
                </a:lnTo>
                <a:close/>
              </a:path>
              <a:path fill="darkenLess" w="32375" h="21600">
                <a:moveTo>
                  <a:pt x="15265" y="14299"/>
                </a:moveTo>
                <a:lnTo>
                  <a:pt x="17110" y="14299"/>
                </a:lnTo>
                <a:lnTo>
                  <a:pt x="17110" y="17989"/>
                </a:lnTo>
                <a:lnTo>
                  <a:pt x="21497" y="17989"/>
                </a:lnTo>
                <a:lnTo>
                  <a:pt x="21497" y="10800"/>
                </a:lnTo>
                <a:lnTo>
                  <a:pt x="10878" y="10800"/>
                </a:lnTo>
                <a:lnTo>
                  <a:pt x="10878" y="17989"/>
                </a:lnTo>
                <a:lnTo>
                  <a:pt x="15265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" action="ppaction://hlinkshowjump?jump=previousslide"/>
          </p:cNvPr>
          <p:cNvSpPr/>
          <p:nvPr/>
        </p:nvSpPr>
        <p:spPr>
          <a:xfrm>
            <a:off x="6477120" y="6486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12688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10843" y="3794"/>
                </a:lnTo>
                <a:lnTo>
                  <a:pt x="10843" y="17806"/>
                </a:lnTo>
                <a:lnTo>
                  <a:pt x="918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20640" y="14400"/>
            <a:ext cx="790884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Gli strumenti di rile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1. L’osservazione</a:t>
            </a: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                       </a:t>
            </a:r>
            <a:r>
              <a:rPr b="1" lang="it-IT" sz="2000" spc="-1" strike="noStrike">
                <a:solidFill>
                  <a:srgbClr val="ffffff"/>
                </a:solidFill>
                <a:latin typeface="Verdana"/>
              </a:rPr>
              <a:t>                                      </a:t>
            </a:r>
            <a:r>
              <a:rPr b="1" lang="it-IT" sz="1400" spc="-1" strike="noStrike">
                <a:solidFill>
                  <a:srgbClr val="ffffff"/>
                </a:solidFill>
                <a:latin typeface="Verdana"/>
              </a:rPr>
              <a:t>Pagina </a:t>
            </a:r>
            <a:fld id="{C73E8B5E-4D6D-409B-BE5B-7F38212E3A52}" type="slidenum">
              <a:rPr b="1" lang="it-I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r>
              <a:rPr b="1" lang="it-IT" sz="1400" spc="-1" strike="noStrike">
                <a:solidFill>
                  <a:srgbClr val="ffffff"/>
                </a:solidFill>
                <a:latin typeface="Verdana"/>
              </a:rPr>
              <a:t> di 17</a:t>
            </a: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086520" y="207504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28600" y="996840"/>
            <a:ext cx="20574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In questa le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2057400"/>
            <a:ext cx="8076960" cy="2514600"/>
          </a:xfrm>
          <a:prstGeom prst="rect">
            <a:avLst/>
          </a:prstGeom>
          <a:noFill/>
          <a:ln w="50760">
            <a:solidFill>
              <a:srgbClr val="57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3048120"/>
            <a:ext cx="525780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 cosa serve 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alità di classificazione del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uperare i limiti del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Gli strumenti per osserv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68000" y="2362320"/>
            <a:ext cx="544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questa lezione saranno trattati i seguenti argoment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28600" y="996840"/>
            <a:ext cx="32767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li strumenti per osserv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736640" y="146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261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codificazione dei dati avviene senza aver predefinito categorie di analis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00600" y="2619360"/>
            <a:ext cx="396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codificazione dei dati avviene utilizzando categorie prestabili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3886200"/>
            <a:ext cx="3597480" cy="1797480"/>
          </a:xfrm>
          <a:prstGeom prst="rect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Osservazioni dal vivo “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carta e penna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Registrazioni audio e vid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Fotografie e le diaposi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chede di registrazione di brevi episodi (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anedoctal records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61080" y="3962520"/>
            <a:ext cx="3444840" cy="1554120"/>
          </a:xfrm>
          <a:prstGeom prst="rect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Griglie di osservazione (liste di controllo o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check-list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; sistemi o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griglie di categori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cale di valutazion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(rating sca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5867280"/>
            <a:ext cx="815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Vediamo insieme alcuni di questi strumenti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2209680"/>
            <a:ext cx="3581280" cy="381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TRUMENTI APER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00600" y="2209680"/>
            <a:ext cx="3505320" cy="381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TRUMENTI CHIU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1600200"/>
            <a:ext cx="830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li strumenti utilizzati per l’osservazione possono essere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pert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o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hius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76520" y="3276720"/>
            <a:ext cx="761760" cy="5331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465e75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172200" y="3352680"/>
            <a:ext cx="762120" cy="53352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465e75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57200" y="2743200"/>
            <a:ext cx="8305920" cy="32004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1689120"/>
            <a:ext cx="8381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e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iste di controll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(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 lis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) sono elenchi di comportamenti attesi, o di caratteristiche, la cui presenza o frequenza viene rilevata in un soggetto durante una definita unità di tempo. Ad esempi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" y="996840"/>
            <a:ext cx="32767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li strumenti per osserv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2120" y="2895480"/>
            <a:ext cx="7543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lasse ……………….   Sigla osservatore…………….. Data ………….    Ora ………………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Nome e cognome  dell’alunno coordinatore del gruppo …………………..………………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Argomento della discussione ……………….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571680" y="3733920"/>
            <a:ext cx="8000640" cy="2057400"/>
            <a:chOff x="571680" y="3733920"/>
            <a:chExt cx="8000640" cy="2057400"/>
          </a:xfrm>
        </p:grpSpPr>
        <p:grpSp>
          <p:nvGrpSpPr>
            <p:cNvPr id="121" name=""/>
            <p:cNvGrpSpPr/>
            <p:nvPr/>
          </p:nvGrpSpPr>
          <p:grpSpPr>
            <a:xfrm>
              <a:off x="578880" y="3736080"/>
              <a:ext cx="7985520" cy="2052360"/>
              <a:chOff x="578880" y="3736080"/>
              <a:chExt cx="7985520" cy="2052360"/>
            </a:xfrm>
          </p:grpSpPr>
          <p:grpSp>
            <p:nvGrpSpPr>
              <p:cNvPr id="122" name=""/>
              <p:cNvGrpSpPr/>
              <p:nvPr/>
            </p:nvGrpSpPr>
            <p:grpSpPr>
              <a:xfrm>
                <a:off x="578880" y="3736080"/>
                <a:ext cx="4396320" cy="342000"/>
                <a:chOff x="578880" y="3736080"/>
                <a:chExt cx="4396320" cy="34200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646920" y="3736080"/>
                  <a:ext cx="42595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578880" y="3736080"/>
                  <a:ext cx="43963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4975560" y="3736080"/>
                <a:ext cx="3588840" cy="342000"/>
                <a:chOff x="4975560" y="3736080"/>
                <a:chExt cx="3588840" cy="34200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5043600" y="3736080"/>
                  <a:ext cx="345240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Membri del grupp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4975560" y="3736080"/>
                  <a:ext cx="358884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578880" y="4078080"/>
                <a:ext cx="4396320" cy="342000"/>
                <a:chOff x="578880" y="4078080"/>
                <a:chExt cx="4396320" cy="34200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646920" y="4078080"/>
                  <a:ext cx="42595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578880" y="4078080"/>
                  <a:ext cx="43963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4975560" y="4078080"/>
                <a:ext cx="896760" cy="342000"/>
                <a:chOff x="4975560" y="4078080"/>
                <a:chExt cx="896760" cy="34200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5043600" y="407808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Pier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975560" y="407808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5872680" y="4078080"/>
                <a:ext cx="896760" cy="342000"/>
                <a:chOff x="5872680" y="4078080"/>
                <a:chExt cx="896760" cy="34200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5941080" y="4078080"/>
                  <a:ext cx="75996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Lori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5872680" y="407808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6769800" y="4078080"/>
                <a:ext cx="897120" cy="342000"/>
                <a:chOff x="6769800" y="4078080"/>
                <a:chExt cx="897120" cy="34200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6838200" y="4078080"/>
                  <a:ext cx="75960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Sar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6769800" y="4078080"/>
                  <a:ext cx="8971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7667640" y="4078080"/>
                <a:ext cx="896760" cy="342000"/>
                <a:chOff x="7667640" y="4078080"/>
                <a:chExt cx="896760" cy="3420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7735680" y="407808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Elen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7667640" y="407808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578880" y="4420080"/>
                <a:ext cx="4396320" cy="342000"/>
                <a:chOff x="578880" y="4420080"/>
                <a:chExt cx="4396320" cy="34200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646920" y="4420080"/>
                  <a:ext cx="42595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1. Invita ad esprimers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78880" y="4420080"/>
                  <a:ext cx="43963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4975560" y="4420080"/>
                <a:ext cx="896760" cy="342000"/>
                <a:chOff x="4975560" y="4420080"/>
                <a:chExt cx="896760" cy="34200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5043600" y="442008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4975560" y="442008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5872680" y="4420080"/>
                <a:ext cx="896760" cy="342000"/>
                <a:chOff x="5872680" y="4420080"/>
                <a:chExt cx="896760" cy="34200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5941080" y="4420080"/>
                  <a:ext cx="75996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5872680" y="442008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6769800" y="4420080"/>
                <a:ext cx="897120" cy="342000"/>
                <a:chOff x="6769800" y="4420080"/>
                <a:chExt cx="897120" cy="34200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6838200" y="4420080"/>
                  <a:ext cx="75960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6769800" y="4420080"/>
                  <a:ext cx="8971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7667640" y="4420080"/>
                <a:ext cx="896760" cy="342000"/>
                <a:chOff x="7667640" y="4420080"/>
                <a:chExt cx="896760" cy="34200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7735680" y="442008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7667640" y="442008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578880" y="4762440"/>
                <a:ext cx="4396320" cy="342000"/>
                <a:chOff x="578880" y="4762440"/>
                <a:chExt cx="4396320" cy="34200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646920" y="4762440"/>
                  <a:ext cx="42595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2. Discute, polemizza, si mostra in disaccord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78880" y="4762440"/>
                  <a:ext cx="43963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4975560" y="4762440"/>
                <a:ext cx="896760" cy="342000"/>
                <a:chOff x="4975560" y="4762440"/>
                <a:chExt cx="896760" cy="34200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5043600" y="476244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4975560" y="4762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5872680" y="4762440"/>
                <a:ext cx="896760" cy="342000"/>
                <a:chOff x="5872680" y="4762440"/>
                <a:chExt cx="896760" cy="34200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5941080" y="4762440"/>
                  <a:ext cx="75996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5872680" y="4762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6769800" y="4762440"/>
                <a:ext cx="897120" cy="342000"/>
                <a:chOff x="6769800" y="4762440"/>
                <a:chExt cx="897120" cy="34200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6838200" y="4762440"/>
                  <a:ext cx="75960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6769800" y="4762440"/>
                  <a:ext cx="8971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7667640" y="4762440"/>
                <a:ext cx="896760" cy="342000"/>
                <a:chOff x="7667640" y="4762440"/>
                <a:chExt cx="896760" cy="34200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7735680" y="476244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7667640" y="4762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578880" y="5104440"/>
                <a:ext cx="4396320" cy="342000"/>
                <a:chOff x="578880" y="5104440"/>
                <a:chExt cx="4396320" cy="34200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646920" y="5104440"/>
                  <a:ext cx="42595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3. Privilegia le idee di alcun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78880" y="5104440"/>
                  <a:ext cx="43963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4975560" y="5104440"/>
                <a:ext cx="896760" cy="342000"/>
                <a:chOff x="4975560" y="5104440"/>
                <a:chExt cx="896760" cy="34200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5043600" y="510444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4975560" y="5104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5872680" y="5104440"/>
                <a:ext cx="896760" cy="342000"/>
                <a:chOff x="5872680" y="5104440"/>
                <a:chExt cx="896760" cy="34200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5941080" y="5104440"/>
                  <a:ext cx="75996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5872680" y="5104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6769800" y="5104440"/>
                <a:ext cx="897120" cy="342000"/>
                <a:chOff x="6769800" y="5104440"/>
                <a:chExt cx="897120" cy="34200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6838200" y="5104440"/>
                  <a:ext cx="75960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6769800" y="5104440"/>
                  <a:ext cx="8971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7667640" y="5104440"/>
                <a:ext cx="896760" cy="342000"/>
                <a:chOff x="7667640" y="5104440"/>
                <a:chExt cx="896760" cy="34200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7735680" y="510444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7667640" y="5104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578880" y="5446440"/>
                <a:ext cx="4396320" cy="342000"/>
                <a:chOff x="578880" y="5446440"/>
                <a:chExt cx="4396320" cy="3420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646920" y="5446440"/>
                  <a:ext cx="42595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4. Sostiene, aiuta, incoraggi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578880" y="5446440"/>
                  <a:ext cx="43963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4975560" y="5446440"/>
                <a:ext cx="896760" cy="342000"/>
                <a:chOff x="4975560" y="5446440"/>
                <a:chExt cx="896760" cy="34200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5043600" y="544644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975560" y="5446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5872680" y="5446440"/>
                <a:ext cx="896760" cy="342000"/>
                <a:chOff x="5872680" y="5446440"/>
                <a:chExt cx="896760" cy="34200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941080" y="5446440"/>
                  <a:ext cx="75996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5872680" y="5446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6769800" y="5446440"/>
                <a:ext cx="897120" cy="342000"/>
                <a:chOff x="6769800" y="5446440"/>
                <a:chExt cx="897120" cy="34200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6838200" y="5446440"/>
                  <a:ext cx="75960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6769800" y="5446440"/>
                  <a:ext cx="8971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7667640" y="5446440"/>
                <a:ext cx="896760" cy="342000"/>
                <a:chOff x="7667640" y="5446440"/>
                <a:chExt cx="896760" cy="3420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735680" y="544644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7667640" y="5446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3" name=""/>
            <p:cNvSpPr/>
            <p:nvPr/>
          </p:nvSpPr>
          <p:spPr>
            <a:xfrm>
              <a:off x="571680" y="3733920"/>
              <a:ext cx="8000640" cy="20574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80880" y="1600200"/>
            <a:ext cx="838224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Le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griglie di osservazion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sono guide che forniscono indicazioni sui comportamenti da osservare corredate da uno spazio per annotare tali comportament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L'osservatore sa già così “cosa cercare” nel comportamento altrui ed è aiutato nella rilevazione di tali comportament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Questo è un esempio di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griglia di categori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996840"/>
            <a:ext cx="32767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li strumenti per osserv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828800" y="3809880"/>
          <a:ext cx="5562720" cy="1675080"/>
        </p:xfrm>
        <a:graphic>
          <a:graphicData uri="http://schemas.openxmlformats.org/drawingml/2006/table">
            <a:tbl>
              <a:tblPr/>
              <a:tblGrid>
                <a:gridCol w="55627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’allievo ha amici in clas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’allievo accetta i consigli dei compagn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’allievo aiuta i compagni in difficolt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’allievo parla volentieri di sé in clas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’allievo studia a casa con i compagni di clas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04920" y="1519200"/>
            <a:ext cx="845820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Le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scale di valutazion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rating scal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) consentono di rilevare l'intensità o la frequenza di un comportamento, oppure di esprimere un giudizio su intenzioni/opinioni o atteggiamenti dei soggetti osserva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L’osservatore effettua la valutazione indicando il suo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grado di accord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con un’ipotesi o il suo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giudizi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di presenza di un dato carattere, in corrispondenza di una serie di proposizion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" y="996840"/>
            <a:ext cx="32767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li strumenti per osserv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4920" y="5638680"/>
            <a:ext cx="8534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’attribuzione del giudizio viene fatta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attraverso l’indicazione di un numero, un aggettivo o scegliendo tra diverse descrizioni analitiche forni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380880" y="3352680"/>
          <a:ext cx="8305920" cy="2057400"/>
        </p:xfrm>
        <a:graphic>
          <a:graphicData uri="http://schemas.openxmlformats.org/drawingml/2006/table">
            <a:tbl>
              <a:tblPr/>
              <a:tblGrid>
                <a:gridCol w="3276720"/>
                <a:gridCol w="914400"/>
                <a:gridCol w="685800"/>
                <a:gridCol w="1219320"/>
                <a:gridCol w="990360"/>
                <a:gridCol w="121932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 ni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bastanz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l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ltissi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 Sorveglia l’andamento del lavo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 Regola il lavoro di grupp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. Cura l’uso de temp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. Si limita a seguire gli altri, è pass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.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80880" y="1600200"/>
            <a:ext cx="8534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brevi episod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, o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nedoctal record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, consentono la registrazione di brevi episodi all’interno di schede che prevedono l’esplicitazione del contesto in cui avvengono tali episodi. Ad esempi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" y="996840"/>
            <a:ext cx="32767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li strumenti per osserv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267080" y="5896080"/>
            <a:ext cx="3886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(Fonte: GATTULLO-GIOVANNINI, 1989, p.14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2590920"/>
            <a:ext cx="7391160" cy="32907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lasse…………….. Sigla osservatore……………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Data ………………. Ora………………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Nome e cognome dell’alunno………………………………………………………………………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Situazione generale in cui si inserisce l’osserva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……………………………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……………………………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Breve episo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……………………………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……………………………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……………………………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nformazioni aggiun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……………………………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80880" y="1600200"/>
            <a:ext cx="792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Infine, questo è un esempio di strumento “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arta e penna”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" y="996840"/>
            <a:ext cx="32767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li strumenti per osserv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2209680"/>
            <a:ext cx="7924680" cy="3717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A segue F e la osserva mentre F canticchia. A gironzola osservando F che canticchia e dispone di mobiletti. A sparisce per un po’ dalla visuale, torna con due bambole. A mostra una bambola a F chiedendole “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questa è la tua bambina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?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(F risponde “sì”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A dice “to’ allora che piange” e porge la bambola a F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(F la rifiuta dicendo “no, non è la mia bambina”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A con le due bambole va alla cucinetta dove osserva due compagne che giocano con le stoviglie. Torna al tavolo a guardare F che dispone i mobiletti sul tavolo,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le chiede “è la casetta della tua bambina?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(F risponde “sì”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A dice “anch’io sono una mamma”, poi mostra a C una bambola e le chiede “è la tua bambina?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(C non rispond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A depone una delle bambole,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stringe l’altro bambolotto al petto e dice “sst ss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”, poi dice qualcosa sottovoce a D. Osserva F e la segue. Dice qualcosa di incomprensibile, si gratta la testa, va verso la finestra, tocca alcuni oggetti,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culla il bambolotto tenendolo in braccio, dice “questa è la sua amica” e prende un’altra bambola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. Osserva le bambine alla casett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029200" y="579132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(FONTE: BONDIOLI- SAVIO, 1994, p.118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80880" y="1600200"/>
            <a:ext cx="792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iassumendo, sapresti classificare i seguenti strumenti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" y="996840"/>
            <a:ext cx="32767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li strumenti per osserv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905120" y="5781600"/>
            <a:ext cx="533376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i clic nelle caselle corrispondent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733920" y="2286000"/>
            <a:ext cx="243828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TRUMENTI APER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162840" y="2286000"/>
            <a:ext cx="236196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TRUMENTI CHIU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4694400"/>
            <a:ext cx="327672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sservazioni dal vivo “carta e penna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" y="2743200"/>
            <a:ext cx="327672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chede di registrazione di brevi episodi (anedoctal record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4329000"/>
            <a:ext cx="3276720" cy="33732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check-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" y="3357720"/>
            <a:ext cx="3276720" cy="33732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riglie di categor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3714840"/>
            <a:ext cx="327672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cale di valutazione (rating sca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4675320"/>
            <a:ext cx="243828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733920" y="2738520"/>
            <a:ext cx="243828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733920" y="4309920"/>
            <a:ext cx="2438280" cy="36216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733920" y="3352680"/>
            <a:ext cx="2438280" cy="36216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3920" y="3710160"/>
            <a:ext cx="243828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172200" y="4680000"/>
            <a:ext cx="243828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172200" y="2743200"/>
            <a:ext cx="243828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172200" y="4314960"/>
            <a:ext cx="2438280" cy="36180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172200" y="3357720"/>
            <a:ext cx="2438280" cy="36180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3714840"/>
            <a:ext cx="243828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9718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315200" y="2976480"/>
            <a:ext cx="15228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00600" y="3438360"/>
            <a:ext cx="15228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315200" y="34434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94344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15200" y="394812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4414680"/>
            <a:ext cx="15228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315200" y="441972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4871880"/>
            <a:ext cx="15228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315200" y="487692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462600" y="1035000"/>
            <a:ext cx="11286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Riepi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" y="1600200"/>
            <a:ext cx="7924680" cy="4343400"/>
          </a:xfrm>
          <a:prstGeom prst="rect">
            <a:avLst/>
          </a:prstGeom>
          <a:noFill/>
          <a:ln w="50760">
            <a:solidFill>
              <a:srgbClr val="57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14400" y="1676520"/>
            <a:ext cx="73915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Riepilogando quanto visto finora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sservare significa descrivere le caratteristiche di un  evento, di un comportamento o di una situazione in contesti reali e non artificialmente predisposti.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L’osservazione può avere diverse funzioni: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scrittiva, Euristica, (diagnostica o di scoperta), Formativa, di Verifica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alutativ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base al modo in cui viene condotta, l’osservazione può essere classificata come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Strutturata (sistematica)/ Non strutturata, Partecipante/ Non partecipante, Spontanea (occasionale), Diretta/ Indirett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Gli strumenti di osservazione possono essere chiusi (osservazioni dal vivo “carta e penna”, anedoctal records, etc.) o aperti (check-list, scale di valutazione, etc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59400" y="1066680"/>
            <a:ext cx="3441600" cy="47116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85800" y="3809880"/>
            <a:ext cx="3124080" cy="1524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2311560"/>
            <a:ext cx="3276720" cy="27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questa lezione parleremo della funzione e dei metodi dell’osservazio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ima di iniziare definiamo il concetto di osservazion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sservare significa descrivere le caratteristiche di un  evento, di un comportamento o di una situazione in contesti reali e non artificialmente predisposti.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996840"/>
            <a:ext cx="30481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 cosa serve 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1981080"/>
            <a:ext cx="1752840" cy="1676520"/>
          </a:xfrm>
          <a:prstGeom prst="donut">
            <a:avLst>
              <a:gd name="adj" fmla="val 6564"/>
            </a:avLst>
          </a:prstGeom>
          <a:solidFill>
            <a:srgbClr val="5f5f5f"/>
          </a:solidFill>
          <a:ln w="12600">
            <a:solidFill>
              <a:srgbClr val="1829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996840"/>
            <a:ext cx="30481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 cosa serve 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76920" y="2819520"/>
            <a:ext cx="3504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condo te, l’attività descritta qui accanto è un esempio di osservazion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915160" y="412596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915160" y="44928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334120"/>
            <a:ext cx="335304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i clic sulla risposta che preferisc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248520" y="4021200"/>
            <a:ext cx="17524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514600"/>
            <a:ext cx="2808000" cy="3581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762120" y="1905120"/>
            <a:ext cx="3200400" cy="914400"/>
          </a:xfrm>
          <a:prstGeom prst="wedgeRectCallout">
            <a:avLst>
              <a:gd name="adj1" fmla="val -51092"/>
              <a:gd name="adj2" fmla="val 97745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Vediamo come si comporta quest’uomo all’interno di un labirinto. Come troverà l’uscita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09480" y="2155680"/>
            <a:ext cx="3810240" cy="27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L'osservazione permette d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prendere in esame variabili ritenute importa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osservare un evento nel suo ambiente naturale e nel momento in cui acc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studiare per un determinato periodo di tempo una situazio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analizzare in profondità un ca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996840"/>
            <a:ext cx="30481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 cosa serve 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724280" y="1981080"/>
            <a:ext cx="354960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80880" y="1568520"/>
            <a:ext cx="762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iù in particolare, l’osservazione ha le seguenti funzion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600" y="996840"/>
            <a:ext cx="30481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 cosa serve 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09480" y="2057400"/>
          <a:ext cx="8001000" cy="4057560"/>
        </p:xfrm>
        <a:graphic>
          <a:graphicData uri="http://schemas.openxmlformats.org/drawingml/2006/table">
            <a:tbl>
              <a:tblPr/>
              <a:tblGrid>
                <a:gridCol w="1600200"/>
                <a:gridCol w="64008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unzi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scrizi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Descritt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i osserva per descrivere la situazione o il fenomeno osservat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uristica (diagnostica o di scopert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i osserva per far emergere ipotesi pertinenti, che saranno ulteriormente sottoposte ad attività di controll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ormat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i osserva per agire sulla base di quanto osservato e si agisce per formare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Verif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i osserva una situazione manipolata o provocata per poter verificare un’ipotesi e quindi si utilizza l’osservazione come strumento di misurazione delle variabili riguardanti l’ipotesi stess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Valutat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i osserva per fare delle valutazioni e sulla loro base assumere decisioni sull’azione da intraprendere. L’azione sarà a sua volta sottoposta a valutazione, e dunque all’osservazione, per una nuova decision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8600" y="996840"/>
            <a:ext cx="30481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 cosa serve 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029200" y="2543040"/>
            <a:ext cx="3581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e tipo di funzione ha l’osservazione che sarà effettuata da questa insegnant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715000" y="3581280"/>
            <a:ext cx="24382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scrit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ma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erif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68604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10080" y="402444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952880" y="5334120"/>
            <a:ext cx="335304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i clic sulla risposta che preferisc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10080" y="438624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0" t="0" r="0" b="18229"/>
          <a:stretch/>
        </p:blipFill>
        <p:spPr>
          <a:xfrm>
            <a:off x="1219320" y="2971800"/>
            <a:ext cx="2722320" cy="30481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09480" y="1676520"/>
            <a:ext cx="3810240" cy="1295280"/>
          </a:xfrm>
          <a:prstGeom prst="wedgeRectCallout">
            <a:avLst>
              <a:gd name="adj1" fmla="val -1500"/>
              <a:gd name="adj2" fmla="val 6409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tendo osservare il rendimento scolastico degli studenti nel primo semestre. Su questa base deciderò come impostare il programma di insegnamento del secondo semest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1905120" y="2768760"/>
          <a:ext cx="4647960" cy="2184120"/>
        </p:xfrm>
        <a:graphic>
          <a:graphicData uri="http://schemas.openxmlformats.org/drawingml/2006/table">
            <a:tbl>
              <a:tblPr/>
              <a:tblGrid>
                <a:gridCol w="4647960"/>
              </a:tblGrid>
              <a:tr h="54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82972"/>
                      </a:solidFill>
                    </a:lnL>
                    <a:lnR w="13680">
                      <a:solidFill>
                        <a:srgbClr val="182972"/>
                      </a:solidFill>
                    </a:lnR>
                    <a:lnT w="13680">
                      <a:solidFill>
                        <a:srgbClr val="182972"/>
                      </a:solidFill>
                    </a:lnT>
                    <a:lnB w="13680">
                      <a:solidFill>
                        <a:srgbClr val="182972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82972"/>
                      </a:solidFill>
                    </a:lnL>
                    <a:lnR w="13680">
                      <a:solidFill>
                        <a:srgbClr val="182972"/>
                      </a:solidFill>
                    </a:lnR>
                    <a:lnT w="13680">
                      <a:solidFill>
                        <a:srgbClr val="182972"/>
                      </a:solidFill>
                    </a:lnT>
                    <a:lnB w="13680">
                      <a:solidFill>
                        <a:srgbClr val="182972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82972"/>
                      </a:solidFill>
                    </a:lnL>
                    <a:lnR w="13680">
                      <a:solidFill>
                        <a:srgbClr val="182972"/>
                      </a:solidFill>
                    </a:lnR>
                    <a:lnT w="13680">
                      <a:solidFill>
                        <a:srgbClr val="182972"/>
                      </a:solidFill>
                    </a:lnT>
                    <a:lnB w="13680">
                      <a:solidFill>
                        <a:srgbClr val="182972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82972"/>
                      </a:solidFill>
                    </a:lnL>
                    <a:lnR w="13680">
                      <a:solidFill>
                        <a:srgbClr val="182972"/>
                      </a:solidFill>
                    </a:lnR>
                    <a:lnT w="13680">
                      <a:solidFill>
                        <a:srgbClr val="182972"/>
                      </a:solidFill>
                    </a:lnT>
                    <a:lnB w="13680">
                      <a:solidFill>
                        <a:srgbClr val="182972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457200" y="1523880"/>
            <a:ext cx="80010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bbiamo visto che l’osservazione può avere diversi scopi (o funzioni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sa può essere anche condotta in diversi modi, in base ai quali può essere classificata com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996840"/>
            <a:ext cx="49528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ahoma"/>
              </a:rPr>
              <a:t>Modalità di classificazione del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33720" y="5629320"/>
            <a:ext cx="457200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i clic su ogni opzione per leggere la descrizi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28800" y="2844720"/>
            <a:ext cx="4800600" cy="20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trutturata (sistematica)/ Non strutturat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Partecipante/ Non partecipa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pontanea (occasionale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iretta/ Indiret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334120" y="1447920"/>
            <a:ext cx="358128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2765520"/>
            <a:ext cx="4876920" cy="32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reattività dei soggetti osservati e dell’osservato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difficoltà di quantificazione dei da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 dimensioni ridotte del campio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mancanza di anonimato di chi viene osservat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 scarso grado di attendibilità della mis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 caratteristiche dell’osservatore/ricercatore:  paradigmi, valori o condizioni psico-fisich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 tecniche di registrazione e di codifica dei dati che varia in relazione all’uso di sistemi strutturati o non strutturati di osservazio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scarsa attenzione al contest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996840"/>
            <a:ext cx="36576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Superare i limiti del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1841400"/>
            <a:ext cx="4953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uando si utilizza la tecnica dell’osservazione, occorre tener presenti i seguenti problemi che sono ad essa lega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31068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334120" y="1447920"/>
            <a:ext cx="358128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4120" y="1447920"/>
            <a:ext cx="358128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10080" y="1600200"/>
            <a:ext cx="358164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5562720"/>
            <a:ext cx="1828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1981080"/>
            <a:ext cx="4191120" cy="40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 superare i limiti dell’osservazione è necessario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tabilire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che cosa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come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quando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osservare. E’ necessario perciò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delimitare il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campo di osservazion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e ciò che si vuole osservar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tabilire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procedura, criteri e strument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da utilizzare per l’osservazione e la registrazione dei dati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tabilire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i tempi e i luogh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in cui effettuare l’osservazion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tabilire l’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unità di osservazion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e il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tipo di analis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da effettua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996840"/>
            <a:ext cx="36576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Superare i limiti del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7T13:38:17Z</dcterms:created>
  <dc:creator>Pentium Processor</dc:creator>
  <dc:description/>
  <dc:language>en-US</dc:language>
  <cp:lastModifiedBy>Poste Italiane S.p.A.</cp:lastModifiedBy>
  <dcterms:modified xsi:type="dcterms:W3CDTF">2005-03-07T11:21:36Z</dcterms:modified>
  <cp:revision>202</cp:revision>
  <dc:subject/>
  <dc:title>Presentazione di PowerPoint</dc:title>
</cp:coreProperties>
</file>